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9E0-27E8-46DF-8423-6E09A865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DAF-6036-471F-9F60-4D44F031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EC6-6783-4C71-BBC2-15ABA2FD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EFE-10B5-4B37-9AD3-B98A0CF4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0F0-EB9A-40A5-B5A2-E73C21C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488-9B7A-4D07-B012-6C4A6443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CBD-1AB3-4F11-B3EB-65DE67F7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D11-9A85-4513-AF86-5A5CF2F1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4F1-E2A7-42E1-A3FB-DD6FBD6D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E8B-CA7F-4130-85F4-AB6CA441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B60-975B-4801-BA03-C1A9D4E3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F03-38FB-47BD-A319-9215E81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56F7-E110-4E8B-97D7-C9D4E8E51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animatedgif.net/space/a1ufo2_e0.gif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4 inner planets?  List them in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stronomical Unit (AU) is equal to _____ million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 has the largest volcano in the solar system called _____  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en planets in the night sky appear to move backwards we call it _______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trograde motion provides evidence that the planets are closer to us than the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828800"/>
            <a:ext cx="22100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981080" cy="15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nimated 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676520" y="1066680"/>
            <a:ext cx="13030200" cy="153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is approximately 1 Astronomical Uni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planets are extremely far _____ and difficult to reach by space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inner planets are ____and therefore ____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outer planets are _____ and are therefore _____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438280"/>
            <a:ext cx="22100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981080" cy="15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____ is the phase of the moon that is completely lit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moon goes around the earth, _____ is lit up and half is in ______ and as a result, we see _______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r False, lunar phases are caused by the earth’s 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ar eclipse is when the _____ is between the earth and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895480"/>
            <a:ext cx="22096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057400" y="3429000"/>
            <a:ext cx="175248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05720" y="7162920"/>
            <a:ext cx="206676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084E-006 C 0.08907 -0.04696 0.17813 -0.09392 0.27396 -0.12214 C 0.3698 -0.15036 0.46059 -0.1691 0.57639 -0.16933 C 0.69219 -0.16956 0.84254 -0.14134 0.96927 -0.12376 C 1.09601 -0.10618 1.26059 -0.07588 1.33733 -0.06338 E">
                                      <p:cBhvr>
                                        <p:cTn id="22" dur="9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2004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above diagram to answer the following question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 a collapsing nebula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is when dust grains clump together we ca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s planet 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s a spinning, flattening nebular cloud with a hot ce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planets were formed, they were ______ by asteroids and meteor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0" y="0"/>
            <a:ext cx="716292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152280"/>
            <a:ext cx="17528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7010280"/>
            <a:ext cx="2209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8867E-006 C -0.00486 -0.00417 -0.01041 -0.00972 -0.01562 -0.01273 C -0.02048 -0.01527 -0.01996 -0.01319 -0.02413 -0.01596 C -0.0335 -0.02221 -0.02222 -0.01666 -0.03159 -0.02082 C -0.03819 -0.03031 -0.03975 -0.02684 -0.04722 -0.03216 C -0.04948 -0.03401 -0.05416 -0.0384 -0.05416 -0.03817 C -0.06111 -0.05228 -0.05191 -0.03586 -0.06024 -0.04488 C -0.06163 -0.04604 -0.06163 -0.04835 -0.06267 -0.04974 C -0.06371 -0.05112 -0.0651 -0.05182 -0.06632 -0.05298 C -0.07083 -0.062 -0.07743 -0.06616 -0.08316 -0.07379 C -0.09132 -0.08467 -0.07951 -0.07333 -0.08923 -0.08189 C -0.09253 -0.08837 -0.09757 -0.09484 -0.10243 -0.09947 C -0.10486 -0.10178 -0.10972 -0.10595 -0.10972 -0.10572 C -0.11059 -0.10757 -0.11145 -0.10896 -0.11215 -0.11081 C -0.11267 -0.11242 -0.1125 -0.11451 -0.11319 -0.11566 C -0.1151 -0.11821 -0.11823 -0.11844 -0.12048 -0.12029 C -0.12152 -0.12191 -0.1217 -0.12399 -0.12291 -0.12515 C -0.12413 -0.1263 -0.12569 -0.12561 -0.12656 -0.12677 C -0.13298 -0.13533 -0.1217 -0.12885 -0.13142 -0.13324 C -0.13645 -0.14412 -0.13003 -0.13209 -0.13854 -0.14134 C -0.13958 -0.1425 -0.13993 -0.14458 -0.14114 -0.14597 C -0.14409 -0.1499 -0.14791 -0.15383 -0.15191 -0.15568 C -0.15538 -0.16216 -0.15711 -0.16447 -0.16267 -0.16702 C -0.17326 -0.18043 -0.18576 -0.1839 -0.2 -0.18622 C -0.20833 -0.18992 -0.21545 -0.19616 -0.22413 -0.19894 C -0.23298 -0.2068 -0.26319 -0.20796 -0.27239 -0.20865 C -0.2743 -0.20912 -0.27639 -0.20935 -0.2783 -0.21027 C -0.28003 -0.21097 -0.28142 -0.21282 -0.28316 -0.21351 C -0.29132 -0.21629 -0.29913 -0.21652 -0.30729 -0.21999 C -0.31666 -0.22392 -0.32378 -0.22785 -0.33368 -0.22947 C -0.34045 -0.23248 -0.34739 -0.2341 -0.35416 -0.23595 C -0.36198 -0.24289 -0.375 -0.24428 -0.38437 -0.24728 C -0.3908 -0.25307 -0.39757 -0.25353 -0.40486 -0.25677 C -0.40729 -0.25793 -0.41215 -0.26001 -0.41215 -0.25978 C -0.41614 -0.2688 -0.41232 -0.26325 -0.42291 -0.26648 C -0.43229 -0.26949 -0.4408 -0.27157 -0.45069 -0.27296 C -0.45399 -0.27967 -0.45885 -0.2806 -0.46389 -0.28568 C -0.46996 -0.2917 -0.4743 -0.29956 -0.48073 -0.30488 C -0.48541 -0.31437 -0.49288 -0.31969 -0.49878 -0.32755 C -0.5052 -0.33588 -0.51093 -0.34583 -0.51684 -0.35485 C -0.52882 -0.37312 -0.51284 -0.34768 -0.52413 -0.36271 C -0.53038 -0.37104 -0.52552 -0.36688 -0.5302 -0.37405 C -0.5342 -0.38006 -0.54062 -0.38561 -0.5434 -0.39325 C -0.54635 -0.40088 -0.54635 -0.4062 -0.55191 -0.41083 C -0.55677 -0.42078 -0.55868 -0.43327 -0.5651 -0.44136 C -0.56545 -0.44345 -0.56562 -0.44576 -0.56632 -0.44784 C -0.56684 -0.44969 -0.56823 -0.45085 -0.56875 -0.4527 C -0.57118 -0.46149 -0.57083 -0.47028 -0.57465 -0.47837 C -0.57847 -0.52256 -0.57934 -0.56836 -0.57118 -0.61162 C -0.57152 -0.6329 -0.57378 -0.69073 -0.57118 -0.71594 C -0.57118 -0.71687 -0.55555 -0.7356 -0.55416 -0.73676 C -0.55156 -0.74231 -0.54461 -0.75133 -0.54461 -0.7511 C -0.54236 -0.76059 -0.54427 -0.75503 -0.53611 -0.76567 C -0.53472 -0.76753 -0.53368 -0.76984 -0.53246 -0.77215 C -0.53159 -0.77377 -0.53125 -0.77562 -0.5302 -0.77701 C -0.52465 -0.78464 -0.51597 -0.79158 -0.50972 -0.79783 C -0.50364 -0.80407 -0.49757 -0.81194 -0.49045 -0.81541 C -0.48645 -0.82073 -0.48125 -0.82443 -0.47586 -0.82674 C -0.471 -0.83206 -0.46649 -0.83484 -0.46145 -0.83947 C -0.44913 -0.8508 -0.43802 -0.8626 -0.42413 -0.87 C -0.42048 -0.87717 -0.42343 -0.8737 -0.41684 -0.87648 C -0.41441 -0.8774 -0.40972 -0.87972 -0.40972 -0.87948 C -0.40764 -0.8818 -0.4059 -0.88434 -0.40364 -0.88619 C -0.4026 -0.88712 -0.40104 -0.88689 -0.4 -0.88781 C -0.39323 -0.8936 -0.39288 -0.89845 -0.38507 -0.90192 C -0.38229 -0.90308 -0.37725 -0.90655 -0.37465 -0.90863 C -0.37014 -0.91256 -0.36302 -0.9165 -0.35781 -0.91812 C -0.3526 -0.92274 -0.34687 -0.92413 -0.34097 -0.92621 C -0.33489 -0.93223 -0.33298 -0.93408 -0.32534 -0.93593 C -0.31961 -0.93986 -0.31336 -0.94148 -0.30729 -0.94379 C -0.29288 -0.95651 -0.28038 -0.95929 -0.26389 -0.96484 C -0.2559 -0.97201 -0.24548 -0.97132 -0.23611 -0.97271 C -0.21632 -0.97965 -0.19514 -0.98497 -0.17465 -0.98728 C -0.16198 -0.99168 -0.16666 -0.99052 -0.14218 -0.99052 C -0.06267 -0.99052 0.01684 -0.98936 0.09636 -0.9889 C 0.10504 -0.98497 0.11198 -0.97502 0.12049 -0.9697 C 0.12466 -0.96137 0.13108 -0.9542 0.13733 -0.94865 C 0.14028 -0.94264 0.14254 -0.93685 0.14584 -0.93107 C 0.14618 -0.92737 0.14705 -0.92344 0.14705 -0.91973 C 0.14705 -0.90794 0.14653 -0.89637 0.14584 -0.88457 C 0.14462 -0.86399 0.13056 -0.84988 0.12049 -0.83646 C 0.11285 -0.82628 0.10747 -0.81518 0.09636 -0.81217 C 0.09011 -0.80824 0.08594 -0.8006 0.07952 -0.79783 C 0.07518 -0.78904 0.0783 -0.7939 0.06754 -0.78649 C 0.06407 -0.78418 0.06216 -0.77863 0.05903 -0.77539 C 0.054 -0.77007 0.04966 -0.76521 0.04341 -0.76244 C 0.03785 -0.75133 0.04445 -0.76221 0.03733 -0.75619 C 0.03195 -0.75156 0.02813 -0.74439 0.0217 -0.74162 C 0.01407 -0.73144 0.00157 -0.7245 -0.0085 -0.71918 C -0.01267 -0.71131 -0.01892 -0.70784 -0.02309 -0.69998 C -0.02639 -0.69327 -0.02448 -0.69651 -0.02899 -0.69026 C -0.03055 -0.68425 -0.03246 -0.67893 -0.03368 -0.67268 C -0.03316 -0.65233 -0.03715 -0.63521 -0.02899 -0.61971 C -0.02569 -0.60606 -0.01701 -0.5975 -0.00972 -0.58756 C -0.00191 -0.57692 0.00712 -0.56119 0.01806 -0.5554 C 0.02309 -0.55263 0.02639 -0.55124 0.03125 -0.54731 C 0.04011 -0.54014 0.03976 -0.53944 0.04705 -0.52973 C 0.05 -0.5258 0.05539 -0.52418 0.05903 -0.52163 C 0.06598 -0.5096 0.075 -0.50035 0.08316 -0.48971 C 0.0908 -0.47953 0.0941 -0.46773 0.10365 -0.45917 C 0.10747 -0.45177 0.11285 -0.4483 0.11684 -0.44136 C 0.1224 -0.43211 0.12743 -0.42239 0.13247 -0.41245 C 0.13282 -0.41175 0.13716 -0.40366 0.13733 -0.40296 C 0.13768 -0.40134 0.13785 -0.39949 0.13855 -0.39811 C 0.14427 -0.38747 0.14254 -0.39602 0.14705 -0.38515 C 0.15365 -0.36942 0.15764 -0.35184 0.16754 -0.33866 C 0.17049 -0.32825 0.17483 -0.31923 0.18073 -0.31136 C 0.18351 -0.30003 0.17934 -0.31414 0.18681 -0.30026 C 0.1875 -0.29887 0.18733 -0.29702 0.18785 -0.2954 C 0.18976 -0.28892 0.19063 -0.28823 0.19393 -0.28245 C 0.19653 -0.26926 0.20261 -0.25769 0.2073 -0.24567 C 0.20868 -0.23664 0.21094 -0.22924 0.21198 -0.21999 C 0.21164 -0.19593 0.21146 -0.17164 0.21077 -0.14759 C 0.21077 -0.14597 0.20973 -0.14458 0.20955 -0.14296 C 0.2073 -0.10896 0.21337 -0.08305 0.19879 -0.05459 C 0.19497 -0.04719 0.19358 -0.03725 0.18785 -0.03216 C 0.18351 -0.02267 0.17518 -0.02175 0.16754 -0.0192 C 0.16094 -0.01689 0.15087 -0.00902 0.14462 -0.0081 C 0.13855 -0.00717 0.13264 -0.00694 0.12657 -0.00648 C 0.10469 0.00092 0.09028 0.00046 0.06511 0.00162 C 0.00955 -0.00023 0.03125 2.98867E-006 -3.33333E-006 2.98867E-006 Z">
                                      <p:cBhvr>
                                        <p:cTn id="32" dur="9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has a greenhouse effect similar to earth, but much more sever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has Olympus Mons &amp; is covered with iron oxi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Planets are _____, they move ______ than stars in the night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et that is 150 million km, or 1 AU, from the sun is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planets have____ orbital velocities and the outer planets have ____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kwards motion of planets is called________ 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209680"/>
            <a:ext cx="19814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380880" y="68580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54487E-006 C 0.0033 -0.01665 0.00173 -0.03469 0.00573 -0.05065 C 0.00642 -0.0851 0.0033 -0.13714 0.01562 -0.17114 C 0.01684 -0.17969 0.01771 -0.19334 0.02118 -0.20074 C 0.02656 -0.21323 0.03125 -0.22618 0.0368 -0.23843 C 0.03784 -0.24075 0.03889 -0.24352 0.03958 -0.24607 C 0.04062 -0.24977 0.04097 -0.2537 0.04236 -0.25717 C 0.0526 -0.28238 0.04444 -0.25717 0.05069 -0.27058 C 0.05191 -0.27289 0.0526 -0.27544 0.05364 -0.27775 C 0.05677 -0.28423 0.06024 -0.29047 0.06354 -0.29648 C 0.06823 -0.30527 0.0651 -0.30943 0.07187 -0.31522 C 0.0743 -0.31984 0.0776 -0.32354 0.07899 -0.3284 C 0.08264 -0.34343 0.07986 -0.33672 0.0875 -0.34921 C 0.09062 -0.36633 0.08611 -0.34875 0.09305 -0.36031 C 0.09392 -0.36216 0.09357 -0.36448 0.09444 -0.36586 C 0.09635 -0.37026 0.09948 -0.37326 0.10156 -0.37743 C 0.11198 -0.39708 0.12118 -0.41674 0.13246 -0.43547 C 0.1401 -0.44819 0.13923 -0.45721 0.15087 -0.46716 C 0.15225 -0.4704 0.15347 -0.47363 0.15486 -0.47664 C 0.15607 -0.47872 0.15798 -0.48011 0.1592 -0.48219 C 0.16319 -0.48982 0.16093 -0.49422 0.16771 -0.49722 C 0.16962 -0.50578 0.17326 -0.50647 0.1776 -0.51226 C 0.18003 -0.51572 0.18212 -0.51989 0.18455 -0.52359 C 0.1908 -0.53261 0.19774 -0.54093 0.20434 -0.54972 C 0.21146 -0.55943 0.21823 -0.57053 0.22691 -0.57794 C 0.23212 -0.58765 0.23611 -0.59181 0.24375 -0.59852 C 0.24826 -0.60268 0.25573 -0.61216 0.2592 -0.61748 C 0.26007 -0.61956 0.26076 -0.62188 0.26215 -0.62326 C 0.26337 -0.62442 0.26493 -0.62396 0.26614 -0.62488 C 0.28194 -0.63621 0.26909 -0.62951 0.27899 -0.63436 C 0.28073 -0.63714 0.28246 -0.63968 0.28455 -0.642 C 0.28576 -0.64315 0.28767 -0.64246 0.28889 -0.64362 C 0.29479 -0.64893 0.29982 -0.6568 0.30573 -0.66235 C 0.31076 -0.6672 0.31389 -0.67299 0.31979 -0.67553 C 0.32951 -0.68524 0.33854 -0.69542 0.34809 -0.70583 C 0.35434 -0.7123 0.3585 -0.71808 0.36632 -0.72063 C 0.37031 -0.72456 0.37135 -0.72572 0.37621 -0.72803 C 0.37882 -0.72942 0.38455 -0.73173 0.38455 -0.73173 C 0.38975 -0.73867 0.39722 -0.73936 0.40434 -0.74121 C 0.41146 -0.74769 0.41875 -0.75092 0.42673 -0.75439 C 0.43194 -0.75647 0.43611 -0.76133 0.44097 -0.76387 C 0.44496 -0.76572 0.44982 -0.76642 0.45364 -0.76942 C 0.4592 -0.77382 0.46389 -0.78029 0.46909 -0.78446 C 0.47482 -0.78908 0.48142 -0.79163 0.4875 -0.79556 C 0.49826 -0.80273 0.50625 -0.81105 0.5184 -0.81429 C 0.53368 -0.8247 0.54965 -0.83233 0.56493 -0.84274 C 0.57777 -0.85129 0.58923 -0.86263 0.60295 -0.8691 C 0.61146 -0.8802 0.63281 -0.89153 0.64375 -0.8987 C 0.65486 -0.90587 0.6625 -0.91466 0.67482 -0.91952 C 0.6809 -0.92437 0.68663 -0.92692 0.69305 -0.93062 C 0.70277 -0.9364 0.71215 -0.94588 0.72257 -0.94935 C 0.72812 -0.9512 0.73402 -0.95166 0.73958 -0.95328 C 0.75521 -0.95768 0.77031 -0.966 0.78611 -0.97016 C 0.79392 -0.97433 0.79843 -0.97595 0.80712 -0.97757 C 0.82777 -0.98612 0.81927 -0.98358 0.83246 -0.98705 C 0.84496 -0.99769 0.86146 -0.99167 0.87604 -0.99445 C 0.89843 -1.00439 0.92378 -1.00277 0.94652 -1.00393 C 1.00712 -1.01526 0.97621 -1.01017 1.11423 -1.00393 C 1.11996 -1.0037 1.14097 -0.9956 1.14948 -0.99445 C 1.16163 -0.99052 1.17361 -0.98404 1.18593 -0.98127 C 1.19166 -0.97988 1.20295 -0.97757 1.20295 -0.97757 C 1.20521 -0.97641 1.20746 -0.97479 1.20989 -0.97386 C 1.21215 -0.97294 1.21475 -0.97294 1.21701 -0.97201 C 1.22795 -0.96716 1.23715 -0.95606 1.24809 -0.95143 C 1.25399 -0.94519 1.25798 -0.94195 1.26475 -0.93825 C 1.27083 -0.92738 1.27951 -0.92206 1.2875 -0.91374 C 1.29566 -0.90518 1.30416 -0.89685 1.31284 -0.88968 C 1.31823 -0.8802 1.32239 -0.87234 1.32968 -0.86494 C 1.33385 -0.86054 1.34236 -0.85199 1.34236 -0.85199 C 1.34757 -0.83996 1.35573 -0.83117 1.36215 -0.82007 C 1.36493 -0.81522 1.36771 -0.81013 1.37048 -0.80504 C 1.37187 -0.8025 1.37482 -0.79741 1.37482 -0.79741 C 1.37708 -0.78561 1.37517 -0.79209 1.38177 -0.77868 C 1.38264 -0.77683 1.38455 -0.77312 1.38455 -0.77312 C 1.38142 -0.7315 1.3625 -0.68709 1.33958 -0.65888 C 1.33107 -0.64801 1.3217 -0.63251 1.31146 -0.62488 C 1.28663 -0.60638 1.25955 -0.59297 1.23246 -0.58164 C 1.22882 -0.58002 1.22621 -0.57562 1.22257 -0.57423 C 1.20989 -0.56915 1.19479 -0.57053 1.18177 -0.5666 C 1.1151 -0.5673 1.04843 -0.56753 0.98159 -0.56868 C 0.92777 -0.56961 0.87239 -0.57932 0.81823 -0.58164 C 0.7993 -0.5888 0.77951 -0.58904 0.76076 -0.59852 C 0.74861 -0.60453 0.73611 -0.60916 0.72396 -0.61563 C 0.71823 -0.61864 0.71302 -0.62396 0.70694 -0.62673 C 0.70121 -0.62951 0.69479 -0.6302 0.68889 -0.63251 C 0.67239 -0.63899 0.65607 -0.64616 0.63941 -0.6531 C 0.63541 -0.65472 0.58455 -0.66466 0.5776 -0.66605 C 0.55729 -0.6753 0.54062 -0.69288 0.521 -0.70398 C 0.50972 -0.71045 0.49774 -0.71508 0.48611 -0.72063 C 0.47326 -0.72687 0.45989 -0.73219 0.44635 -0.73566 C 0.43212 -0.73936 0.41701 -0.73867 0.40295 -0.74306 C 0.375 -0.75139 0.34652 -0.75624 0.3184 -0.76387 C 0.27343 -0.79394 0.221 -0.7988 0.17187 -0.80689 C 0.14635 -0.81822 0.11788 -0.81753 0.09166 -0.82007 C 0.05868 -0.81938 0.02569 -0.81938 -0.00695 -0.81822 C -0.01841 -0.81776 -0.0408 -0.81244 -0.0408 -0.81244 C -0.05 -0.80828 -0.05799 -0.80203 -0.06754 -0.79926 C -0.07223 -0.79301 -0.07604 -0.79093 -0.0816 -0.78631 C -0.08785 -0.78099 -0.09167 -0.77382 -0.09844 -0.76942 C -0.10157 -0.76295 -0.10278 -0.76064 -0.10834 -0.75832 C -0.11164 -0.75162 -0.11389 -0.74745 -0.11962 -0.74491 C -0.12813 -0.73358 -0.13264 -0.71924 -0.13646 -0.70398 C -0.13993 -0.66651 -0.14618 -0.61147 -0.12952 -0.57794 C -0.12934 -0.57678 -0.12778 -0.55828 -0.12657 -0.5555 C -0.12518 -0.5525 -0.12257 -0.55065 -0.12101 -0.54787 C -0.11702 -0.5407 -0.11354 -0.53284 -0.10973 -0.52544 C -0.10052 -0.50694 -0.09098 -0.48774 -0.07882 -0.47294 C -0.07084 -0.463 -0.06476 -0.45004 -0.05486 -0.44473 C -0.04705 -0.43131 -0.03889 -0.42553 -0.02813 -0.41651 C -0.00434 -0.39732 0.01909 -0.38113 0.04514 -0.36794 C 0.07066 -0.35522 0.03871 -0.37049 0.06475 -0.35291 C 0.07257 -0.34806 0.08316 -0.34551 0.09166 -0.34343 C 0.10191 -0.33349 0.10712 -0.33279 0.1184 -0.32678 C 0.13646 -0.31707 0.15399 -0.30596 0.17326 -0.3025 C 0.17812 -0.29903 0.18246 -0.29556 0.18732 -0.29301 C 0.19097 -0.2907 0.19514 -0.28954 0.19878 -0.28723 C 0.21371 -0.27752 0.22691 -0.26619 0.24236 -0.25717 C 0.25659 -0.24907 0.25017 -0.25462 0.26354 -0.24607 C 0.26684 -0.24375 0.27031 -0.24144 0.27343 -0.23843 C 0.27673 -0.23566 0.27951 -0.23127 0.28316 -0.22895 C 0.28628 -0.2271 0.28975 -0.2271 0.29305 -0.22525 C 0.30034 -0.22155 0.325 -0.20559 0.3283 -0.20282 C 0.33958 -0.19264 0.35121 -0.18432 0.36354 -0.17669 C 0.371 -0.17206 0.37934 -0.16998 0.38611 -0.16327 C 0.40989 -0.14061 0.38333 -0.1642 0.40434 -0.15009 C 0.41371 -0.14408 0.41788 -0.13413 0.4283 -0.13136 C 0.43646 -0.12026 0.44826 -0.11609 0.45625 -0.10522 C 0.45972 -0.10083 0.46215 -0.09528 0.46632 -0.09204 C 0.46875 -0.09019 0.47135 -0.0888 0.47326 -0.08649 C 0.47934 -0.08002 0.48489 -0.06799 0.49027 -0.06198 C 0.49462 -0.05735 0.5 -0.05388 0.50434 -0.0488 C 0.50972 -0.04232 0.51944 -0.02914 0.52239 -0.02081 C 0.52465 -0.01503 0.52951 -0.00393 0.52951 -0.00393 C 0.53455 0.0229 0.53541 0.034 0.51979 0.04672 C 0.50746 0.05666 0.51597 0.0525 0.50712 0.0562 C 0.49896 0.06337 0.48993 0.06915 0.48038 0.07123 C 0.46909 0.08118 0.45607 0.07771 0.44236 0.07863 C 0.3835 0.0784 0.17725 0.105 0.06475 0.06753 C 0.06111 0.06221 0.05486 0.05851 0.04948 0.0562 C 0.04375 0.04903 0.03784 0.04325 0.0309 0.03747 C 0.02847 0.03539 0.02257 0.03377 0.02257 0.03377 C 0.01927 0.02914 0.01562 0.02799 0.01128 0.02428 C 0.01041 0.02243 0.00955 0.02058 0.0085 0.01873 C 0.00764 0.01735 0.00642 0.01619 0.00573 0.0148 C 0.00364 0.01133 -2.77778E-007 0.0037 -2.77778E-007 0.0037 C -0.00157 -0.003 -0.00226 -0.0037 -2.77778E-007 -1.54487E-006 Z">
                                      <p:cBhvr>
                                        <p:cTn id="42" dur="1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has a very low density, this is because Saturn is a ______ pla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the outer planets, the inner planets orbit much______ and _______to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 is more dense than the outer planets because mars is a______ plan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gives Uranus and Neptune its blue green colo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planets are made mostly of____&amp;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Jovian planets are made mostly of ______ &amp; 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1143000"/>
            <a:ext cx="22096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on &amp; si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 &amp; Hel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0" y="4038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372600" y="914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34290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6799 C -0.06268 -0.11517 -0.15139 -0.07377 -0.22743 -0.07423 C -0.28004 -0.07539 -0.33264 -0.07516 -0.38525 -0.07747 C -0.42639 -0.07909 -0.46806 -0.08557 -0.5092 -0.08834 C -0.56389 -0.09944 -0.62014 -0.09921 -0.67535 -0.10106 C -0.71754 -0.10661 -0.69879 -0.10499 -0.73177 -0.10731 C -0.8 -0.11818 -0.86441 -0.11887 -0.93455 -0.11979 C -0.94618 -0.12141 -0.95851 -0.1228 -0.96979 -0.12627 C -0.97431 -0.12766 -0.97795 -0.13159 -0.98247 -0.13251 C -0.99045 -0.1339 -0.99844 -0.13344 -1.00643 -0.1339 C -1.01407 -0.13691 -1.02101 -0.14223 -1.02882 -0.145 C -1.03108 -0.14732 -1.03195 -0.15078 -1.03438 -0.1531 C -1.03577 -0.15402 -1.03716 -0.15379 -1.03872 -0.15448 C -1.04462 -0.15795 -1.05104 -0.1605 -1.05712 -0.16397 C -1.06216 -0.16975 -1.05868 -0.16628 -1.06841 -0.17345 C -1.06997 -0.1746 -1.07101 -0.17669 -1.07257 -0.17807 C -1.07778 -0.18247 -1.08386 -0.18663 -1.08941 -0.19056 C -1.09063 -0.19149 -1.09098 -0.19311 -1.09236 -0.1938 C -1.09584 -0.19588 -1.10973 -0.19681 -1.11059 -0.19704 C -1.11754 -0.19819 -1.125 -0.19935 -1.13177 -0.20166 C -1.13438 -0.20259 -1.14011 -0.20467 -1.14011 -0.20467 C -1.1408 -0.20583 -1.14184 -0.20721 -1.14306 -0.20814 C -1.14427 -0.20883 -1.14618 -0.20837 -1.14723 -0.20953 C -1.14827 -0.21068 -1.14757 -0.213 -1.14861 -0.21415 C -1.15122 -0.21716 -1.16042 -0.2241 -1.16407 -0.22687 C -1.16493 -0.22849 -1.16563 -0.23011 -1.16684 -0.2315 C -1.16806 -0.23288 -1.17014 -0.23312 -1.17118 -0.2345 C -1.17205 -0.23589 -1.17188 -0.23797 -1.17257 -0.23936 C -1.17934 -0.253 -1.17396 -0.24028 -1.17969 -0.24884 C -1.18177 -0.25185 -1.18525 -0.25832 -1.18525 -0.25809 C -1.1882 -0.26873 -1.18368 -0.2759 -1.17813 -0.28353 C -1.17622 -0.28608 -1.17518 -0.28954 -1.17257 -0.29139 C -1.16094 -0.30018 -1.14705 -0.31082 -1.13316 -0.31337 C -1.12535 -0.31892 -1.13039 -0.31545 -1.11754 -0.32285 C -1.11372 -0.32493 -1.11111 -0.32979 -1.10782 -0.3321 C -1.09757 -0.33857 -1.08507 -0.34343 -1.07396 -0.34806 C -1.06198 -0.35846 -1.04931 -0.36748 -1.03438 -0.37141 C -1.02743 -0.37696 -1.02014 -0.37789 -1.01198 -0.38251 C -0.95504 -0.41466 -0.90104 -0.41027 -0.83733 -0.41397 C -0.82813 -0.41744 -0.81893 -0.41767 -0.8092 -0.41882 C -0.77361 -0.42854 -0.73577 -0.42715 -0.69931 -0.42807 C -0.60643 -0.43039 -0.51337 -0.43177 -0.42049 -0.43432 C -0.30868 -0.43362 -0.23802 -0.43432 -0.14306 -0.42807 C -0.13264 -0.42437 -0.12414 -0.41674 -0.11337 -0.41397 C -0.10903 -0.41165 -0.10365 -0.40818 -0.09931 -0.4061 C -0.09427 -0.40402 -0.09236 -0.40564 -0.08802 -0.4031 C -0.08559 -0.40171 -0.08351 -0.3994 -0.08108 -0.39824 C -0.07414 -0.39477 -0.0658 -0.39431 -0.05851 -0.392 C -0.05052 -0.38945 -0.04115 -0.38413 -0.03316 -0.38251 C -0.02761 -0.38136 -0.02188 -0.38159 -0.01615 -0.3809 C -0.01493 -0.38066 -0.00243 -0.37835 -0.0007 -0.37789 C 0.00121 -0.37696 0.00277 -0.37534 0.00486 -0.37465 C 0.00816 -0.37396 0.03194 -0.37164 0.03455 -0.37141 C 0.0493 -0.36748 0.06545 -0.3654 0.07951 -0.35892 C 0.09878 -0.34991 0.08385 -0.35453 0.09652 -0.35106 C 0.10121 -0.34759 0.11198 -0.3432 0.11198 -0.34297 C 0.11979 -0.33441 0.13003 -0.33256 0.1401 -0.32909 C 0.14652 -0.32192 0.15451 -0.31776 0.16267 -0.31337 C 0.16788 -0.31036 0.17152 -0.30527 0.17673 -0.30226 C 0.18159 -0.29417 0.18993 -0.29232 0.19652 -0.28492 C 0.20208 -0.27891 0.20521 -0.27104 0.21198 -0.26619 C 0.21475 -0.25832 0.22135 -0.24028 0.22604 -0.2345 C 0.22725 -0.22733 0.22725 -0.21993 0.22882 -0.21276 C 0.22916 -0.21091 0.2309 -0.20976 0.23159 -0.20814 C 0.23281 -0.20559 0.23368 -0.20282 0.23455 -0.20004 C 0.23524 -0.19819 0.23507 -0.19588 0.23593 -0.1938 C 0.23732 -0.19079 0.23975 -0.18871 0.24149 -0.18594 C 0.24392 -0.17553 0.24826 -0.16628 0.25139 -0.1561 C 0.25086 -0.1531 0.25121 -0.1494 0.25 -0.14662 C 0.24635 -0.13737 0.23038 -0.13298 0.22326 -0.12789 C 0.21198 -0.11956 0.22864 -0.12997 0.21753 -0.12141 C 0.21302 -0.11794 0.20711 -0.11471 0.20208 -0.11216 C 0.19618 -0.10522 0.19375 -0.10754 0.18663 -0.10407 C 0.17795 -0.10014 0.17014 -0.09482 0.16128 -0.09158 C 0.15972 -0.09089 0.15868 -0.08904 0.15694 -0.08834 C 0.15139 -0.08672 0.14566 -0.08695 0.1401 -0.08534 C 0.12031 -0.07053 0.08819 -0.07493 0.06823 -0.07423 C 0.0618 -0.07192 0.06545 -0.07285 0.05694 -0.07285 E">
                                      <p:cBhvr>
                                        <p:cTn id="48" dur="14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86772E-006 C -0.07101 0.00093 -0.14062 0.00324 -0.21128 0.00162 C -0.24792 0.00648 -0.23055 0.00463 -0.30434 0.00463 C -0.44653 0.00463 -0.58889 0.0037 -0.73108 0.00301 C -0.83281 -0.00323 -0.89358 0.0007 -1.02396 0.00162 C -1.05208 0.00278 -1.07917 0.00671 -1.10712 0.00925 C -1.11528 0.0155 -1.125 0.01619 -1.13385 0.02035 C -1.14653 0.02614 -1.15833 0.03354 -1.17187 0.03608 C -1.19201 0.04695 -1.21076 0.06615 -1.21562 0.09112 C -1.21788 0.12234 -1.22153 0.17368 -1.20573 0.20421 C -1.19028 0.23405 -1.21441 0.18132 -1.19722 0.21994 C -1.1934 0.24145 -1.17986 0.25717 -1.16632 0.27197 C -1.15069 0.28886 -1.1375 0.30782 -1.1184 0.32054 C -1.11267 0.32887 -1.10469 0.33349 -1.09722 0.3395 C -1.09062 0.34482 -1.08385 0.34968 -1.0776 0.35523 C -1.07483 0.35754 -1.07326 0.36101 -1.07048 0.36309 C -1.06493 0.36726 -1.05798 0.36864 -1.05226 0.37234 C -1.04132 0.37951 -1.03038 0.38807 -1.01979 0.39616 C -1.01805 0.39732 -0.99965 0.4075 -0.99444 0.41027 C -0.98264 0.41652 -0.97048 0.42484 -0.9592 0.43224 C -0.92864 0.4519 -0.89774 0.47156 -0.86337 0.48104 C -0.85 0.4896 -0.83542 0.4933 -0.82118 0.49977 C -0.80694 0.50625 -0.79323 0.51272 -0.77899 0.51874 C -0.76493 0.52475 -0.75278 0.53261 -0.73802 0.53608 C -0.73351 0.53862 -0.72847 0.53978 -0.72396 0.54209 C -0.71337 0.54811 -0.71875 0.54926 -0.70712 0.55181 C -0.69705 0.55366 -0.6875 0.55366 -0.6776 0.55643 C -0.65052 0.57216 -0.61354 0.56707 -0.58455 0.56892 C -0.46441 0.56846 -0.3441 0.56846 -0.22396 0.5673 C -0.20278 0.5673 -0.18177 0.56661 -0.16059 0.56591 C -0.14323 0.56499 -0.10851 0.56268 -0.10851 0.56291 C -0.09583 0.56013 -0.08333 0.55828 -0.07048 0.55643 C -0.03698 0.54579 -0.00173 0.54464 0.03229 0.53608 C 0.04757 0.53215 0.06354 0.52937 0.07882 0.52498 C 0.09427 0.52059 0.10816 0.51434 0.12396 0.51226 C 0.14375 0.50509 0.16233 0.49908 0.18299 0.49515 C 0.20295 0.48636 0.22517 0.47757 0.2408 0.46069 C 0.24167 0.45791 0.24184 0.45491 0.24358 0.45259 C 0.24497 0.45097 0.24774 0.45121 0.24931 0.44959 C 0.25538 0.44288 0.25556 0.4408 0.25764 0.43386 C 0.25712 0.36448 0.27413 0.25671 0.2408 0.18224 C 0.23854 0.17183 0.23403 0.1649 0.22952 0.15565 C 0.2283 0.1531 0.22813 0.14986 0.22674 0.14755 C 0.22517 0.14524 0.22257 0.14385 0.22101 0.14154 C 0.21788 0.13645 0.21597 0.13067 0.21267 0.12581 C 0.20886 0.12049 0.20521 0.11517 0.20139 0.10985 C 0.20017 0.108 0.2 0.10546 0.19861 0.10361 C 0.19445 0.09783 0.18854 0.09367 0.18438 0.08788 C 0.17726 0.07771 0.17118 0.06892 0.16042 0.0643 C 0.15469 0.05574 0.14827 0.05204 0.1408 0.04556 C 0.1309 0.03677 0.13924 0.04071 0.1309 0.03747 C 0.125 0.03099 0.11875 0.0259 0.11129 0.02197 C 0.10538 0.01249 0.09583 0.00671 0.08594 0.00463 C 0.06649 -0.01619 0.03646 -0.00578 0.01129 -0.00647 C 0.00104 -0.00439 0.00434 -0.00763 -1.11111E-006 -2.86772E-006 Z">
                                      <p:cBhvr>
                                        <p:cTn id="50" dur="10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8:17:24Z</dcterms:created>
  <dc:creator>jfuller</dc:creator>
  <dc:description/>
  <dc:language>en-US</dc:language>
  <cp:lastModifiedBy>jfuller</cp:lastModifiedBy>
  <dcterms:modified xsi:type="dcterms:W3CDTF">2011-08-31T18:29:47Z</dcterms:modified>
  <cp:revision>6</cp:revision>
  <dc:subject/>
  <dc:title>Make up Bellwork</dc:title>
</cp:coreProperties>
</file>